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838-9239-4CDB-86CA-7DD5FA47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828-99EA-4059-A546-32D2B29B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C98-E006-41A7-B6F9-B7C3FB88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D97-2DF3-4173-9756-648F48BE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9D7-9874-4A1D-B4CD-79855B3E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BF4-13ED-49D4-9080-E9495DAA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D31-2F1B-4FB0-9F2D-B08ECF6E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225-6EB9-4EAC-8172-48AD5F4D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B3E-97EB-4BE3-8904-33581E54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CCD-CD3A-403C-B224-C0DA8CE4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078-6F31-46CE-BDD3-AD592BDE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138-5FE1-4A7C-9F9D-F93A0AA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A625-5E48-434A-B9B8-0A6893E3A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Automatización y Robótica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2do parcial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actividades PLC Rslogix 5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898989"/>
                </a:solidFill>
                <a:latin typeface="Calibri"/>
              </a:rPr>
              <a:t>Profesor: Juan José Gloria 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898989"/>
                </a:solidFill>
                <a:latin typeface="Calibri"/>
              </a:rPr>
              <a:t>Alumno__________________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898989"/>
                </a:solidFill>
                <a:latin typeface="Calibri"/>
              </a:rPr>
              <a:t>Matricula: ________________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898989"/>
                </a:solidFill>
                <a:latin typeface="Calibri"/>
              </a:rPr>
              <a:t>Grupo  _______________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ntradas-salid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5 Marcador de contenido" descr="images.jpg"/>
          <p:cNvPicPr/>
          <p:nvPr/>
        </p:nvPicPr>
        <p:blipFill>
          <a:blip r:embed="rId1"/>
          <a:stretch/>
        </p:blipFill>
        <p:spPr>
          <a:xfrm>
            <a:off x="5715000" y="2909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rcRect l="0" t="19158" r="44107" b="10089"/>
          <a:stretch/>
        </p:blipFill>
        <p:spPr>
          <a:xfrm>
            <a:off x="285840" y="1606680"/>
            <a:ext cx="40719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ack, slot y modu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4 Marcador de contenido" descr="1308255700_216553541_1-Rack-4slots-Con-Fuente-P1-Para-Slc-500-Allen-Bradley-Plc-0.jpg"/>
          <p:cNvPicPr/>
          <p:nvPr/>
        </p:nvPicPr>
        <p:blipFill>
          <a:blip r:embed="rId1"/>
          <a:stretch/>
        </p:blipFill>
        <p:spPr>
          <a:xfrm>
            <a:off x="1143000" y="2529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5 Marcador de contenido" descr="20111207074714489_L.JPG"/>
          <p:cNvPicPr/>
          <p:nvPr/>
        </p:nvPicPr>
        <p:blipFill>
          <a:blip r:embed="rId2"/>
          <a:stretch/>
        </p:blipFill>
        <p:spPr>
          <a:xfrm>
            <a:off x="5397480" y="2909880"/>
            <a:ext cx="2540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rt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rcRect l="0" t="18312" r="0" b="7505"/>
          <a:stretch/>
        </p:blipFill>
        <p:spPr>
          <a:xfrm>
            <a:off x="1554120" y="2428920"/>
            <a:ext cx="6035760" cy="3357360"/>
          </a:xfrm>
          <a:prstGeom prst="rect">
            <a:avLst/>
          </a:prstGeom>
          <a:ln w="0">
            <a:noFill/>
          </a:ln>
        </p:spPr>
      </p:pic>
      <p:sp>
        <p:nvSpPr>
          <p:cNvPr id="71" name="3 CuadroTexto"/>
          <p:cNvSpPr/>
          <p:nvPr/>
        </p:nvSpPr>
        <p:spPr>
          <a:xfrm>
            <a:off x="1214280" y="1357200"/>
            <a:ext cx="62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cripción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ntradas door simula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r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mb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:1/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sh bo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ón N.O. para ab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Salida  door simula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r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mb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:1/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nexión eléctr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rcRect l="2945" t="30285" r="92489" b="17047"/>
          <a:stretch/>
        </p:blipFill>
        <p:spPr>
          <a:xfrm>
            <a:off x="1571760" y="2000160"/>
            <a:ext cx="890280" cy="4000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rcRect l="10811" t="29685" r="86229" b="16924"/>
          <a:stretch/>
        </p:blipFill>
        <p:spPr>
          <a:xfrm>
            <a:off x="5643720" y="1928880"/>
            <a:ext cx="312480" cy="4214880"/>
          </a:xfrm>
          <a:prstGeom prst="rect">
            <a:avLst/>
          </a:prstGeom>
          <a:ln w="0">
            <a:noFill/>
          </a:ln>
        </p:spPr>
      </p:pic>
      <p:sp>
        <p:nvSpPr>
          <p:cNvPr id="79" name="7 CuadroTexto"/>
          <p:cNvSpPr/>
          <p:nvPr/>
        </p:nvSpPr>
        <p:spPr>
          <a:xfrm>
            <a:off x="857160" y="142884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r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 CuadroTexto"/>
          <p:cNvSpPr/>
          <p:nvPr/>
        </p:nvSpPr>
        <p:spPr>
          <a:xfrm>
            <a:off x="4714920" y="1428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id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utomatización del 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berá subir y bajar  en forma automát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ntar con protecciones del mo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berá utilizar las luces piloto del pan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Grafce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utomatiz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locar la programación en escale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Batch simulad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0" t="24626" r="32244" b="13819"/>
          <a:stretch/>
        </p:blipFill>
        <p:spPr>
          <a:xfrm>
            <a:off x="820800" y="1496880"/>
            <a:ext cx="660888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 ambiente del PLC A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Menú princip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ntradas –salid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Automatización Cort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ctividad 1 Entras y salid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ctividad 2 de automatiz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Simulador de llenado bat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ctividad 3 Entras y salid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ctividad 4 automatizació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ntradas door simula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14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r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mb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entar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:1/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salida batch simula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229600" cy="14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r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mb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entar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:2/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utomatiz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lenar y vaci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lenar, contar con un un timer y después vaci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lenar, contar con un un timer, y después vaciar.(hacer cinco cicl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Grafce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utomatizac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ubr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71680" y="1357200"/>
          <a:ext cx="8229600" cy="5359680"/>
        </p:xfrm>
        <a:graphic>
          <a:graphicData uri="http://schemas.openxmlformats.org/drawingml/2006/table">
            <a:tbl>
              <a:tblPr/>
              <a:tblGrid>
                <a:gridCol w="1357200"/>
                <a:gridCol w="4143240"/>
                <a:gridCol w="1500120"/>
                <a:gridCol w="1229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yec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ntos a evalu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nder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ti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portada sugerida, o equivalente  (nombre de la institución, carrera , materia , turno , grupo , fecha parcial , nombre de profesor , nombre del alumno , matricula ,fech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ción del proces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ene diagramas , imágenes o diagramas  o planos del proces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 una descripción literal de proces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entradas y salidas en forma ordenada,  símbolo, descripción , direcció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id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entradas y salidas en forma ordenada,  símbolo, descripción , direcció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fce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errores de transición y acciones. Sin comentarios  (rechazo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errores de transición y acciones. Sin comentarios  15%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de transición y acciones, comentarios  sin errores 3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ción de la programación en escalera 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 la programación con errores de lógica, sin direcciones. Rechaz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programación sin errores de Lógica, pero sin simbología de contact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programación sin errores  y con la simbología direccionamiento 40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ubr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71680" y="1357200"/>
          <a:ext cx="8229600" cy="4907160"/>
        </p:xfrm>
        <a:graphic>
          <a:graphicData uri="http://schemas.openxmlformats.org/drawingml/2006/table">
            <a:tbl>
              <a:tblPr/>
              <a:tblGrid>
                <a:gridCol w="1357200"/>
                <a:gridCol w="3786120"/>
                <a:gridCol w="1428840"/>
                <a:gridCol w="165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yec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ntos a evalu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nder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clad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ntra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entradas y salidas en forma ordenada,  símbolo, descripción , direc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alid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entradas y salidas en forma ordenada,  símbolo, descripción , direc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Grafce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errores de transición y acciones. Sin comentarios  (rechazo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errores de transición y acciones. Sin comentarios  15%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de transición y acciones, comentarios  sin errores 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resentación de la programación en escalera 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 la programación con errores de lógica, sin direcciones. Recha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programación sin errores de Lógica, pero sin simbología de contac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programación sin errores  y con la simbología direccionamiento 40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Menú Princip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Menú principal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El proyect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rcRect l="0" t="21467" r="77230" b="7505"/>
          <a:stretch/>
        </p:blipFill>
        <p:spPr>
          <a:xfrm>
            <a:off x="1554120" y="1568520"/>
            <a:ext cx="18036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royec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e presentan los da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trol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figur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Archivo de  oper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(Data fi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ntras sail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Bit bi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t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0" t="21467" r="77230" b="7505"/>
          <a:stretch/>
        </p:blipFill>
        <p:spPr>
          <a:xfrm>
            <a:off x="1509840" y="1600200"/>
            <a:ext cx="1933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Menú principal de contac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26324" t="8839" r="35795" b="81693"/>
          <a:stretch/>
        </p:blipFill>
        <p:spPr>
          <a:xfrm>
            <a:off x="1143000" y="2786040"/>
            <a:ext cx="6858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ntact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uevo rengl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Br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tactos NO y 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alidas instantán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alida lachad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26324" t="8839" r="35795" b="81693"/>
          <a:stretch/>
        </p:blipFill>
        <p:spPr>
          <a:xfrm>
            <a:off x="628560" y="3516480"/>
            <a:ext cx="369576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argar, descargar y monitore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Ir fuera de líne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Ir a on line (en líne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Descargar (mandar al PLC el programa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0" r="77717" b="71412"/>
          <a:stretch/>
        </p:blipFill>
        <p:spPr>
          <a:xfrm>
            <a:off x="457200" y="2347920"/>
            <a:ext cx="297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oner en Run el simula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locar en ru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0" t="0" r="37032" b="78489"/>
          <a:stretch/>
        </p:blipFill>
        <p:spPr>
          <a:xfrm>
            <a:off x="357120" y="2357280"/>
            <a:ext cx="4494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9:20:11Z</dcterms:created>
  <dc:creator>cnc</dc:creator>
  <dc:description/>
  <dc:language>en-US</dc:language>
  <cp:lastModifiedBy>maestro</cp:lastModifiedBy>
  <dcterms:modified xsi:type="dcterms:W3CDTF">2016-02-25T17:56:35Z</dcterms:modified>
  <cp:revision>23</cp:revision>
  <dc:subject/>
  <dc:title>Autommatia</dc:title>
</cp:coreProperties>
</file>